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024-6C9F-4317-9504-296BAB3D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6B5-A3E5-4A30-BD2E-81EB2EF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BF239-2182-4E0B-8B8C-66D475B5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D4F88-DA83-4F87-B794-12C72AD9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048E6-977E-4CB7-946A-BD64DA80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27546-F152-41E1-80C5-B3330689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C9FD6-C172-42A6-A3A4-0F645FAF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304F9-B22A-4EB1-894E-1E631AC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2B64D-C3C5-40B0-A8ED-4AF4C294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4D529-A004-49CB-9BE9-35DC52A6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03889-955F-4B18-A45D-F2426FC7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CF9A2-81D0-462C-B921-2E1EEB59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C4D-5EFB-4DD0-9E4D-4D042A04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B6AC4-00B3-40C1-966C-2047C714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D0903-BC0B-4677-A89D-B5CC0912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9318D-B3DC-4DD2-92E7-ECA45174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2FC0C-4986-465F-B7ED-1FB7DD84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2B2AD-F1F4-4E81-8F78-C072FDBE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D6276-C7E3-4E0B-89C0-BD33E2ED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B7484-C2C5-4807-B4AE-C64221F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73EAF-4AF6-4438-9F65-BFA63808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97DCD-419C-462C-A3ED-89D4B25B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DCB77-7B0A-43C5-A35F-156C1C25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C70-3F91-438B-BE73-11D256A7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EABB1-4D02-47A7-A6E9-E515F98D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5FB38-0441-479A-AA25-995B6C19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F0B82-EB8F-46B2-A23F-356DC917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1AC17-03D4-438F-9D4D-D64D837B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23457-02D4-4FF8-9916-AA9AC0C2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7C9F0-07A5-4A34-BF6F-62C896F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6C93A-8180-4837-92DC-2D32610A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CB25D-0FD9-496D-AAB0-767F9821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88ACC-A69C-4B4F-AEB9-3D41AFC5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CC7A5-81E0-49F3-AAD3-49EE8FAA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E82C-F39E-44CF-A4DF-CCAC234A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BA7BD-D361-49A5-B3F4-39205183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9AC44-1DBD-45BF-81ED-53B81A84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5B5AA-2939-4982-B0E9-1017A3F8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E1B1B-C6B4-4293-BFB4-3F001DCB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05F88-3D74-4B4D-83D1-476A5E52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EC7D5-0295-47C6-A377-5A731BB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B8049-5CB1-4E15-8FF0-19977461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07297-18E9-48A5-8328-D0BBA3B7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A8210-8008-4176-954D-60FEBEF6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E0337-B595-43B3-A28E-14739A8A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2278-3753-438B-BD97-43C6B23E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DBAD6-E4F1-4A3E-864A-69F6B766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D0D83-D5C4-4505-9DA2-8B47114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65EC7-F9B2-4C98-B00E-1E43D80A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E2FED-F42D-4316-A697-CC0E9DA2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4DF04-46C6-4FC9-AA0C-9D62FA34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FDEB3-7FCC-4C9B-AE81-417F4ECA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FA8E1-79CA-4193-8DE9-565F23F6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48143-D897-47CA-910F-A54715F6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A99D0-9FD7-41EF-BA79-A2D05149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9EA9B-389B-41A4-A82A-9BE97184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B1D5-C8DB-4829-A479-213CA2B3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BB45E-06D1-41B5-9ECB-1A9E2854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2339F-7D5C-4688-B419-AEF9BBCD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10CDE-9321-498D-B314-2EE4ABE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DD0E7-7AF3-4755-8419-6DD6DF29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75C22-89F4-4CFE-B2E6-37C67A53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D4D57-B677-4F56-AB38-A1FEC58B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273CA-14B0-41E1-A1DB-96F938E5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1391F-1BED-46B5-A9ED-9B48B938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D966B-8B2F-4A9F-89B0-92C73AB7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DCC3A-4809-4AB3-9263-D83C4D31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5BDD-761E-4F22-830E-26ECE33D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41BB0-7B05-4725-B276-3E85C656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97863-9242-474D-B67A-CBFB7756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08FDE-474D-4A6D-B81F-5C73982D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63AA2-1692-4EE7-ACD3-D511FDDB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A73C8-5330-42AC-BAC6-C0BDD72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83C47-E04B-4801-8A92-0728A7CD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276F8-47A4-4574-8380-5B20D70E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905AF-1BE6-44F8-B007-33A5D66F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59CBC-65C8-4819-806F-EBE655E2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444B1-4986-4A69-ADC4-098E3FD5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5670-7BE1-4404-95B0-99BFB8FF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4EB9E-CE20-4F29-B2BB-248B204B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0E090-1025-4067-8735-268EC662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FA844-33D6-4E94-8939-E98F4B47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56CB0-D927-4DC0-BB2F-6AE4CAF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2DC3F-50FC-48E9-86C5-EF7FD57E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1F987-BF84-4F8C-B91E-24BD77BD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C1310-08A0-4D19-9ECA-969A72E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93A61-E14B-424D-BC55-FB386ED0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7934DE-43C3-4ADA-82D8-DF133B05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C8F20-0FAF-47F1-9740-57C90D53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11D4-17F6-4921-A33F-006F5CB8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E701A-C494-4225-8151-EAD7A946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C8C5F-C309-45F7-BBDC-C558581E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CB254-AAF9-41B3-9E69-DAFA2D1F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54DC0-28F7-4337-B4A7-84E47D66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8ABC1-DDDF-41A6-BFCF-462E54B2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FDA3F-173F-4624-8612-DC4BE0BE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33140-CD47-4260-8A68-E3DFE513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18F83-0785-4AD2-81F1-34571852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7BC46-FE0E-4273-873E-ADF17D43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6CD94-85B2-4AC6-AE27-52C57CC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2BE8-EAF2-4511-BB32-A06F4239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1604A-4F4C-4604-BFEA-19D661D7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EDE86-0924-4D62-8454-EF291879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3C9E9-6284-4AEC-8541-95AA8205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29F2F-3991-4272-BE9D-5156565D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2EAB4-FF6B-4494-923C-E3FCD65D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9A5500-9B75-48CD-AAC5-457B1A4F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E4B5A-1A2E-41CC-8903-F03524D9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6BD6F-8AC9-44F3-B678-BA17F4BF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A6606-2A2E-4A7F-8D30-0B7D687D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4B815-FD5D-4551-AB8C-3ECE04DC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949-F4F2-407C-B99B-5ED50204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CC6B-1A52-4433-8AB6-7B7C0FD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2B844-0DE5-493D-BFB4-EC5DA986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90E63B-0E19-49E4-985D-C537018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5CFDC-747F-4997-8D3C-859E8231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590E1-579F-45B9-B9AD-2BB981BD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8CE9E-4B6D-44AD-B58C-4090FC2B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16D3F-90ED-4ED2-8C31-CDA64A1F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FE7E4-5289-4AFE-9B3E-335F3DC9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CDCA4-B15F-4C1B-AA6D-492072C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F9EA44-04B5-4075-9197-1FC8BE7B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54886-6BF3-4025-BFE6-131C918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B93E-74CE-4309-B766-7AC64431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D3236-9BCD-4411-B769-7B533F25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23805-0386-4E0C-9D40-A975C70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8439A-3C7E-491C-818D-DB04BD8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42A5B-E5FB-4360-88AD-841557D1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B80CF-28FB-4FCD-83E1-9FD4E88C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848FD-983C-4AC5-9C67-2164F5BD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6FC146-7F47-405A-85B5-57EE4E2D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DF8AE8-91A5-443D-B635-568D339E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A61CE-78A7-48BA-B8C9-3577F365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5044A-4E05-4BB1-8BF4-F5E04492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7A77-A08F-4CFB-BF19-35E54ED4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F4E89-457E-49DB-B5B0-55055403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BC14B-676B-4C34-9272-307A10BD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48BB3D-2C0B-4C96-816A-AAE3603B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9E25D-D179-4861-8775-630C0357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02063-4F43-4872-A5C7-0367D4AA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D3C93-BA66-431A-8D43-5B4E3452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8B9D7-5334-43CC-BB7E-A275D4DF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E291BD-C3AC-4690-BD18-0674B191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97A99F-7050-45E6-B5ED-B98826E1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1CB2EF-FC3D-4EF6-B53B-5C6A7EE0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16FD-8AF8-4C8D-A60A-3A1DDAE4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063561-6D3D-4219-BFBD-8B98BCAD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6F787-B6CF-456C-88C7-53B2B5D6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83FAF-7632-4AD0-BE74-26FE95F1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D82662-68E6-4BD9-BEE0-EB141CCF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B8213-B042-469E-A748-71FC4433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59977-1C84-4968-A32F-747BEDE9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76ACF-A9EB-45D0-8361-919218A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D3F34-E5AF-4F81-A9FF-C042B17D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82F9E-125C-4AC8-8574-F5A142E4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3D9A6-5F62-4B79-8167-A72DF217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E493-982D-4947-AC27-D5107DF7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AC3B4B-0E48-4780-A0BE-5E055BBD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D6311-8B8A-4FFF-9543-8F33D509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5684D-83B6-48B1-BA0B-BA56C2F7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E9F5E-BC6A-4033-B920-D19F7948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5A763-D79B-4B4D-9A6D-B1B4421D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B7E935-F47D-4B20-8241-5ADAE7BB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D5D8E-6000-4B20-B78F-7BED1CB7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3C977-6F67-4FF3-975E-F03189C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7C8B5-4A76-4A28-8238-4460B079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67CB6-6E93-4FD9-89FF-1CFB7FAA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A58D-A30F-4E06-ABF7-E93B7929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5EF9D6-4C5A-4B96-81C4-5B3EFACB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6E9D92-9F24-45FE-8C42-1477EAD4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568FD-366D-4C0A-B7CD-B07E00FA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79D4-7DCD-4DC8-859B-95784E7B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41CD-71E3-450E-B848-108FFD27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60C6-924A-491F-84B4-207443CB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8ACB-EC3D-4771-BC4E-6EBFE801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3CF-95E5-4C29-83A3-305328A5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934C-1139-4BB0-B8FF-80AA744F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01BC-1272-4632-A50E-0EF7F752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89E7-1ED1-48CC-BDDE-FEA899F1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8B7E-E955-4DDA-BF97-12164D5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C1AA-9CEA-4951-AD5E-B9D4C9C8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8AFD-E870-4553-A880-5142B6D7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8977-68A8-4E00-95AB-35F3D638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E7276-40B0-4815-8F26-2B90002E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BEF49-C4BC-4297-8F87-C9517ABD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CC36D-97E8-44A3-A303-17CDA234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5A4-F147-465D-857F-934CEE73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DB7D-42A0-4D8A-BDAE-AF5BE593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B0E2-398C-4AF9-8DAA-E98739BC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43DC-E7A8-42B1-9F9D-C5E9C695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05604-946A-412A-8249-60D348C4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7EF3-E9DD-4E34-89DA-0298984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8C90-85DB-4FFD-99C7-603F0F85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7A640-A767-42A7-85CF-622651B3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9DEC4-D21A-4EDB-A2A8-F2D40F34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5B36-A9C7-494E-A6CE-97725E62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6B96-33E2-4EE1-896B-E53EA90C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2D4-9E53-4655-B2EB-32ED3F25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C947E-A96A-487B-BE31-62C8CB22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5C46B-7BF4-4EF8-91B2-31204A5C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077AD-3F78-4C83-9930-7CF9E8D2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D1EA4-71D0-43F5-B9E4-CA135325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6244-4D75-4F30-ACA7-1826D1B4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8FED2-912B-4722-8FEA-12A09370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4F7C-51F8-4385-B43E-6AF9DCB1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A61C8-0BBA-4F1F-BA62-31BA09C8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9B64-7EF7-41EC-934E-7AD561E7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8D19-6963-445A-802F-250C6344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D2F-6404-4AD9-A4C5-C176CFDE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FBD35-F950-4A25-AB9C-74A15B85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8032-4560-472D-8CB4-BF169155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FF8A0-CA54-47AE-8FC5-2E5B993A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B858-AC2A-4B8E-9012-F2EE505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64665-CDC0-4FF2-9CFC-4AF482AF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4ED12-6CC0-4923-87C6-8FE0E391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5D84A-30A5-49B7-8DAB-344B91FF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5F4B5-633E-4AC7-87E3-50F359E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BCCB4-BEF5-46CB-BE40-7549181B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FB9A0-D343-432F-BC32-82305503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1C5-C16C-4481-9804-C4337ECE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400D3-201F-4329-B43A-F272D204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5BF3D-5C4F-4A7A-B49D-FF4114FF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D522-3CE1-4A98-9A91-C7F922C0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9FA82-51A9-4A83-B3B2-E8A43E7E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755EB-9BCF-40BC-A4F3-7A6791A8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52B82-7BA5-4F2B-B57B-ECEE4E84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AB1B-3C1C-4A07-B163-10359A48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0B22F-58F9-401D-B3E6-288610DE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5C6B-BA56-4B46-AEE4-695AF68F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E01C0-E79E-4D95-9EFE-CDF542E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37A-BFBA-4143-AB1E-62154FE1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0BD5D-E977-4DF0-88F2-8C8168CE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E14B2-B4FF-484E-9E78-F3568A2E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2ACB7-BF29-4700-B69E-B4C07391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3C3B4-3791-4917-BF68-3568FABB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76A9B-A55B-4C17-9255-CA12D502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CE5F4-1586-43DD-BB36-C48E44F0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2E39B-B65E-4032-A459-54EA46E3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7F235-88AC-46AF-AF59-AD30A280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328DA-44DB-478F-A387-86411414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F01D5-6B8D-484E-9337-7C656A37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FAC-E98B-44D4-B595-2F3BE8EF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4496A-19AD-4150-993D-A30BB58D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C380C-5638-4DC0-9C54-60A0FB3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A9B37-CF3C-4691-9D7A-E7BDEC0B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E206B-3DF5-467A-8D73-5026F72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D4EC7-1D55-4F5D-A17E-3040D396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7A5BB-AF2E-47B8-91F1-7F975F78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15C0D-5B54-436C-8B65-A8A7BDD1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99620-0377-4F48-B9DB-C6822329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53ED5-A343-4CFF-AEAF-5173BBA3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07F0F-6B30-48D8-A1FE-60DDA6D0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A1EA-6086-4BC1-94D3-BA9CB5D07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D65A-C619-4C04-952F-BC2A79A919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FDCF-63D5-4CF8-8855-0B84D1FA4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7415-B479-43C3-9144-1FD6C94C33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4F75-AE35-4A3B-B55C-03C1C94491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B300-7A61-4BD6-958E-C65BCBC384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5583-81FD-47E5-8C0F-241D602CC8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5326-3C41-46F8-87A4-7A336874E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5BD9-C3DF-4260-9A7D-483A780BA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E119-811F-49FB-BA60-6650FC135E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165C-184A-4F64-9A52-595D7F44FA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6C52-FD16-4BC2-AFFB-D5080F1708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1072-F4DA-4685-BC99-319743ACA7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5A2-5C36-4003-B475-F73618BA9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996D-FA2D-4CB4-951F-0AB513CE6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7B7B-3393-4A70-A348-EC2EF4C1D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9938-0DDA-4CDB-A77A-95236493B4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96E2-DA75-4BD1-A1C8-5D30221E05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38AF-CF1E-44B9-84F6-0D1CC3A78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D396-5ECA-4E14-8B34-9128AE9429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7E7D-A41D-4A04-B7D3-68EB737A1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9F8D-985F-444B-AFDA-F8F730F4EC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203F-977D-465E-8B53-710035ECF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B3C3-DB66-4745-A1C2-1DBB2ACBA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13AE-FAA6-4F96-BBE4-F8AE0CDE4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047A-8CAD-422C-9E01-0269F9A059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7929-05B2-4CBB-BE83-CAA38E2CEA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266D-164C-4027-B220-9BD77C63F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59C8-60DC-4FE0-BD89-B75431CE6D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0843-BCF2-4832-BAF0-E286ED2E3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F83-EB2E-4EAA-BA2A-7F6B6F1105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F32-CCCF-4E38-895C-D4FA90015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BDD4-CA92-4666-9251-172B54671B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EDAF-96C4-487D-8D13-2DA9E2A586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11AA-DB4F-4C86-A150-AF430D80B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33FC-FF44-439F-ACA9-06C6212C9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5ACC-8F70-41F6-9519-8BD072EB2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C36E-167D-4C04-A693-2E2519A58C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B3C0-2C52-4CDD-9FC3-6DA57A138C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A049-9C73-44BE-BBEA-C19088C0DD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724040" y="3138480"/>
            <a:ext cx="56959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3" descr=""/>
          <p:cNvPicPr/>
          <p:nvPr/>
        </p:nvPicPr>
        <p:blipFill>
          <a:blip r:embed="rId1"/>
          <a:stretch/>
        </p:blipFill>
        <p:spPr>
          <a:xfrm>
            <a:off x="66600" y="1347840"/>
            <a:ext cx="9010800" cy="4867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87280" cy="295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684360" y="2054160"/>
            <a:ext cx="287280" cy="295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684360" y="2343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84360" y="27036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684360" y="3062160"/>
            <a:ext cx="287280" cy="2955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1763640" y="5321160"/>
            <a:ext cx="287280" cy="2955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3203640" y="533232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4788000" y="5321160"/>
            <a:ext cx="288720" cy="295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6227640" y="5300640"/>
            <a:ext cx="289080" cy="295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7812000" y="5300640"/>
            <a:ext cx="289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19080" y="1819440"/>
            <a:ext cx="9105840" cy="3219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611280" y="218448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288720" cy="2952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611280" y="2846520"/>
            <a:ext cx="288720" cy="2952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5"/>
          <a:stretch/>
        </p:blipFill>
        <p:spPr>
          <a:xfrm>
            <a:off x="611280" y="3206880"/>
            <a:ext cx="288720" cy="293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6"/>
          <a:stretch/>
        </p:blipFill>
        <p:spPr>
          <a:xfrm>
            <a:off x="684360" y="3854520"/>
            <a:ext cx="2872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52560" y="1681200"/>
            <a:ext cx="9038880" cy="41050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tretch/>
        </p:blipFill>
        <p:spPr>
          <a:xfrm>
            <a:off x="663480" y="20098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631800" y="2343240"/>
            <a:ext cx="289080" cy="293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684360" y="27036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5"/>
          <a:stretch/>
        </p:blipFill>
        <p:spPr>
          <a:xfrm>
            <a:off x="684360" y="30178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6"/>
          <a:stretch/>
        </p:blipFill>
        <p:spPr>
          <a:xfrm>
            <a:off x="684360" y="335124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3:45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